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352-8C2D-440F-8212-84B10BC3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911-0B87-4752-827D-E3D2C27C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E26-74EF-416C-AECC-530C475D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F16-91D1-4124-B6BF-57507551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3908-5ACD-4072-81B0-B431714B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B130-5D04-4823-BD1D-D23E0BC1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8302-CB7C-4DBE-9D52-30DB370E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4CD8-92D3-4175-8E77-46524C81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7396-4961-4C99-A376-9BE99DD5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68DD-5BED-4B4A-8B7A-4A04C866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1511-0762-4F2A-9911-F36832AC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02A-E031-4FED-88A8-0097765F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DFC9-F505-4556-8BB3-13EAB9DA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3E1B-F42F-465B-8E91-4DE81524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FEFE-CF2D-4CD8-AA76-4F95C72A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ECE5-8B3C-4199-A5AD-F2172EA1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AA2F-E804-4C21-8153-7CD4F7B8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C24-67D5-4946-9D73-ED0556D7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141-2CAF-4827-9732-B7B09671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F61-BB9D-4F6F-BCF1-2ACE5736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1CE-F216-4922-B5A2-03645C8A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6EA-F7BC-4993-AA96-F043C4EF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B40-464C-4C31-9372-E2A7DFC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A64-8CD8-486D-93A5-44FCF8CB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C043-17D1-494C-97F9-9B44F0540A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BE55-719D-4A1F-971F-FC9642FAF8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8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, ТУРИЗМА И МОЛОДЕЖНОЙ ПОЛИТИ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ККО ОГО ВФСО "ДИНАМО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ДЕПАРТАМЕНТ ПО ФИЗИЧЕСКОЙ КУЛЬТУРЕ И СПОРТУ КРАСНОДАРСКОГО КРАЯ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российские соревнования по метаниям памяти "Заслуженного работника физической культуры Российской федерации"  А. Лун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7-18.02.2012 г.                                                                                         г. Адлер        с/к «Ю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по метаниям памяти "Заслуженного работника физической культуры Российской федерации"  А. Лунева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615080" cy="4138560"/>
        </p:xfrm>
        <a:graphic>
          <a:graphicData uri="http://schemas.openxmlformats.org/drawingml/2006/table">
            <a:tbl>
              <a:tblPr/>
              <a:tblGrid>
                <a:gridCol w="3565440"/>
                <a:gridCol w="1710000"/>
                <a:gridCol w="658800"/>
                <a:gridCol w="16808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Н. Рабоч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Б. Мор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Крохмал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р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А. Рябин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ян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Жу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л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Н. Коптю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2-02-18T11:57:03Z</cp:lastPrinted>
  <dcterms:modified xsi:type="dcterms:W3CDTF">2012-02-18T12:17:44Z</dcterms:modified>
  <cp:revision>43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